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2297-E46A-4188-BA8E-6F403B72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D34-22C9-459F-A772-3AB1EAE3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187-6891-4388-809E-70AF2B53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92E-47E8-4B1D-96F2-CC9D92DA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3B5-1F42-4D1E-9D31-4E979DE8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082-F04C-47BB-96B0-26AC0045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A59-8BA4-4C9E-8877-986FC12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FE6-F41A-418C-B6E6-5F59AA61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4A4-02AD-48F7-83A4-2722596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505-490F-4A3A-A709-27C761E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F64-B72A-4FAB-9CED-1BA7F4E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1D9-0E91-4A7C-8C53-24B4528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1CB-28BB-4D69-9D56-6BBEFB6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CBE-B319-44F3-AD35-B1A1628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E703-02A5-4026-BEB0-F24FD9D1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6nh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7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t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Esta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40"/>
          <p:cNvSpPr/>
          <p:nvPr/>
        </p:nvSpPr>
        <p:spPr>
          <a:xfrm>
            <a:off x="4117320" y="2286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4116600" y="298620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4192920" y="3595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3889440" y="42051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4039920" y="48909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o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4119120" y="557676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6633720" y="2286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6631920" y="29862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6631560" y="35956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6327720" y="4205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6630480" y="489096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cc"/>
                </a:solidFill>
                <a:latin typeface="Arial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6697440" y="557676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0880" y="3200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ferma la pobre muchach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que guardar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40240" y="21337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la pobre muchacha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2880" y="32907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que guardar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91800" y="4433760"/>
            <a:ext cx="29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en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91080" y="565308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dolor de garga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dolor de cabeza tambié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¿Tiene fiebre y escalofrí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 Está siempre cans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¿Qué tiene? ¿Tiene la gr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39880" y="19051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garg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54280" y="2909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cabeza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28440" y="40528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fiebre y escalofrí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9520" y="51195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siempre cans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63560" y="6186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la gr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,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each person’s condition according to the illu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17280" y="3276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n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504880" y="32767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/ Tiene 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05760" y="39006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t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440080" y="38862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/ Al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16560" y="451008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ervi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916920" y="50436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fe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hat the illness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gripe  un catarro  las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estornudando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fi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dolor de cab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escalof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40080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79246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5105520" y="2666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934320" y="27432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562720" y="32148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366040" y="38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934320" y="43578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562720" y="489096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ferma la pobre muchach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que guardar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á en ca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40240" y="21337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la pobre muchacha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92880" y="32907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que guardar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91800" y="4433760"/>
            <a:ext cx="29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en c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91080" y="565308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Actividad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Esta enferma Ali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Estornuda mu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iene tos tambié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Esta resfri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opinión tienes? ¿Esta Alicia de buen humor o de mal hum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15920" y="198108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Alicia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16280" y="283356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ornud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1800" y="382428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to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015200" y="4815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resfr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16640" y="603396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licia esta de mal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 dolor de garga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dolor de cabeza tambié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¿Tiene fiebre y escalofrí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 Está siempre cans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¿Qué tiene? ¿Tiene la gr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9880" y="19051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garg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54280" y="2909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dolor de cabeza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28440" y="40528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fiebre y escalofrí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9520" y="51195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esta siempre cans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63560" y="6186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i, tiene la gr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l Proposito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á el joven? ¿Está triste o cont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Y la joven, ¿Cómo está? ¿está bien o está enfe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Y la señora, ¿está nerviosa o muy tranqui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El señor, ¿está de mal humor o de buen hum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800" y="237636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joven esta cont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3920" y="3824280"/>
            <a:ext cx="38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joven esta enfe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39160" y="4815000"/>
            <a:ext cx="40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señora esta nerv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40600" y="62485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señor esta de mal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cp:lastPrinted>2013-04-12T19:25:08Z</cp:lastPrinted>
  <dcterms:modified xsi:type="dcterms:W3CDTF">2013-04-17T16:43:20Z</dcterms:modified>
  <cp:revision>22</cp:revision>
  <dc:subject/>
  <dc:title>Slide 1</dc:title>
</cp:coreProperties>
</file>